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9778-909B-4DF9-9EC0-B1D7A816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036-1472-4F71-ADB1-3B49CD3D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3A7-D69B-4266-A1E0-2B7BF14F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DEF-29D8-4780-9635-E8F4BFA1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64B-F06D-4C15-A337-2588B434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5861-9B9B-451F-911C-81E89466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E3E-B6CE-4A1D-9F12-33399BCC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B00-A26F-4FFB-912A-66B6D7A8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B28-4650-4D31-A261-60539C23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45F-9A5A-4939-A948-81C1ACE0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467-214B-4A73-B068-9F386B18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B8E-F7D6-440A-A63B-DEC7541E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3888-C32D-4C3B-B37B-8E0FDD7D9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P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ROBLEM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B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ASED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L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EARN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.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K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.</a:t>
            </a:r>
            <a:r>
              <a:rPr b="0" lang="en-US" sz="2000" spc="-1" strike="noStrike">
                <a:solidFill>
                  <a:srgbClr val="333333"/>
                </a:solidFill>
                <a:latin typeface="Georgia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. PB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3280" y="291960"/>
            <a:ext cx="99014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W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RITE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YOUR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PROBLEM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STATE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Use the lesson plan template to help organize your pl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Your problem statement should be written from the students' perspectiv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It should be one or two lines that describe the problem in student language...and one line for a general objective statem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he problem statement is a general, concise statement that will drive the instruction and inspire lear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Y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OUR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O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BJECTIVES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R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TODAY!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Choose a Problem Based Topic for your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Write your problem stat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Write the rubric for your student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Create a teacher product to be used as you teach the less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W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HAT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IS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PBL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here are MANY definitions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he Original Definition (Mayb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PBL is both a curriculum and a process. The curriculum consists of carefully selected and designed problems that demand from the learner acquisition of critical knowledge, problem solving proficiency, self-directed learning strategies and team participation skills. The process replicates the commonly used systemic approach to resolving problems or meeting challenges that are encountered in life and career (Barrows &amp;Kelson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W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HAT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IS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PBL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he definition we will accept for THIS COURS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PBL is an instructional method that challenges students to "learn to learn," working cooperatively in groups to seek solutions to real world problems (Duch, 1995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S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TRATEGY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COMPARIS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Curriculum as Prescrip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eacher Cente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Linear and ration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Part to who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eaching as transmit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Learning as receiv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Structured environ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Curriculum as Experi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Student Cente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Coherent and releva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Whole to pa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eaching as facilita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Learning as construc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Flexible environ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(Samford University, 2007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P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ARADIGM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S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HIF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he hardest part for educators is to CHANGE THE THINKING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In most lessons, the role of the educator is to take a STANDARD and devise a lesson around it.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he single GOAL is to help the student master the STANDARD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P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ARADIGM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S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HIF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With PBL the teacher mus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START WITH THE PROBLE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BUILD A LESSON AROUND THE PROBLE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ALLOW STUDENTS TO OWN THE PROCES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ALLOW STUDENTS TO CHOOSE THE TECHNOLOGY WITH WHICH THEY WILL PRESENT THEIR SOLU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NOTE THE "MANY" STANDARDS THAT ARE ADDRESSED  DURING THE LESS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P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ARADIGM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S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HIF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0320" y="1471680"/>
            <a:ext cx="96598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With PBL the teacher mus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he MAIN GOAL is for students to creatively and collaboratively SOLVE (or attempt to solve) A PROBLE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he INDIRECT GOALS are for students to MASTER MULTIPLE STANDARDS and SHOW THAT MASTERY through the process and presentation of their solution!!!!!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" y="-125640"/>
            <a:ext cx="965196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STUDENT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PRODUCT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EXAMPLES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-C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AN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YOU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IDENTIFY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THE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PROBLEM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TATEMENT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Precious is so Precious! (An old example of PBL at the 5th grade level...this is not a NEW concept!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o Tattle or Not to Tattle...That is the Question. (An example of PBL at the Pre-school or Kindergarten level...PBL allows for age appropriate problem solving!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**Show Example List HERE!(PBL_IdeasTH.doc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3280" y="291960"/>
            <a:ext cx="99014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IT BEGINS WITH A GREAT PROBLEM!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IT SHOULD ADDRESS A NUMBER OF STANDAR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WHAT IS A REAL LIFE PROBLEM THAT MATTERS TO YOUR STUDENT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WHAT IS AN ISSUE, CHALLENGE, OR SCENARIO YOU CAN PRESENT YOUR STUDENT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****CHOOSE A PROBLEM THAT YOUR STUDENTS FACE AND WRITE A PROBLEM STATEMENT.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